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495C-4EB2-4DD4-9266-87BC4EF20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CE55-C126-4E93-9613-030D53596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E8C5-CB01-4561-B240-19607E9A7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222F-A797-4066-96B5-86D598493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D777-7212-4BB6-8AC9-6A4170574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35FF-413A-438B-8E8D-A03B0CD92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F2CE-D578-40C2-B1E8-12A6B7119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EFB2-1ECB-404A-BBB0-491E1E978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BF50-2817-4C0A-8EA8-1899ABB0B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43B5-2FC4-4357-8E9F-80AA3997F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D022-9682-42FE-848D-B1E247856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BE2E-A034-4A8C-BAA1-BCAFF6478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7C44B-5CAA-4C2F-A772-55C5D9176082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1044720" y="907920"/>
            <a:ext cx="727236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예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혈액형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성격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교육방법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프로그램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지역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1551240" y="490680"/>
            <a:ext cx="219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관심 있거나 궁금했던 것을 단어로 써넣으세요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1042920" y="2130480"/>
            <a:ext cx="2089080" cy="393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1735920" y="1773360"/>
            <a:ext cx="306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위의 단어들 중 관련 지어 생각해보고 싶은 것을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가지 고르세요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5435640" y="2130480"/>
            <a:ext cx="2089080" cy="393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Rectangle 9"/>
          <p:cNvSpPr/>
          <p:nvPr/>
        </p:nvSpPr>
        <p:spPr>
          <a:xfrm>
            <a:off x="3635280" y="2130480"/>
            <a:ext cx="1224000" cy="395280"/>
          </a:xfrm>
          <a:prstGeom prst="rect">
            <a:avLst/>
          </a:prstGeom>
          <a:noFill/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Text Box 10"/>
          <p:cNvSpPr/>
          <p:nvPr/>
        </p:nvSpPr>
        <p:spPr>
          <a:xfrm>
            <a:off x="1650960" y="2781360"/>
            <a:ext cx="24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선택된 두 단어를 이용한 연구문제를 만들어 보세요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11"/>
          <p:cNvSpPr/>
          <p:nvPr/>
        </p:nvSpPr>
        <p:spPr>
          <a:xfrm>
            <a:off x="1042920" y="3138480"/>
            <a:ext cx="7201080" cy="51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1650960" y="3789360"/>
            <a:ext cx="24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위의 두 단어를 무엇으로 측정할 것인지 결정하세요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Rectangle 13"/>
          <p:cNvSpPr/>
          <p:nvPr/>
        </p:nvSpPr>
        <p:spPr>
          <a:xfrm>
            <a:off x="1042920" y="4141800"/>
            <a:ext cx="1944720" cy="51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독립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Rectangle 14"/>
          <p:cNvSpPr/>
          <p:nvPr/>
        </p:nvSpPr>
        <p:spPr>
          <a:xfrm>
            <a:off x="4932360" y="4141800"/>
            <a:ext cx="1944720" cy="51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종속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Text Box 18"/>
          <p:cNvSpPr/>
          <p:nvPr/>
        </p:nvSpPr>
        <p:spPr>
          <a:xfrm>
            <a:off x="1627560" y="4724280"/>
            <a:ext cx="220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측정 변인의 성질에 따라 분석방법을 결정하세요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Rectangle 19"/>
          <p:cNvSpPr/>
          <p:nvPr/>
        </p:nvSpPr>
        <p:spPr>
          <a:xfrm>
            <a:off x="1042920" y="5076720"/>
            <a:ext cx="1944720" cy="51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Rectangle 20"/>
          <p:cNvSpPr/>
          <p:nvPr/>
        </p:nvSpPr>
        <p:spPr>
          <a:xfrm>
            <a:off x="4932360" y="5076720"/>
            <a:ext cx="1944720" cy="51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Rectangle 23"/>
          <p:cNvSpPr/>
          <p:nvPr/>
        </p:nvSpPr>
        <p:spPr>
          <a:xfrm>
            <a:off x="2857680" y="5877000"/>
            <a:ext cx="2160360" cy="51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1T06:43:37Z</dcterms:created>
  <dc:creator>DESKTOP</dc:creator>
  <dc:description/>
  <dc:language>en-US</dc:language>
  <cp:lastModifiedBy>snoopy</cp:lastModifiedBy>
  <dcterms:modified xsi:type="dcterms:W3CDTF">2009-08-17T08:37:16Z</dcterms:modified>
  <cp:revision>4</cp:revision>
  <dc:subject/>
  <dc:title>슬라이드 1</dc:title>
</cp:coreProperties>
</file>